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DD4-4860-4659-89B9-78758B79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D80A-64DB-469D-99C7-6D81C422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944-9E90-446E-93EB-8ECA64DC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2651-3FA7-4500-AEF8-C14084CEF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270B-6C2A-4450-85C4-A1373DA7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errara N. VEGF: an update on biological and therapeutic aspects. Curr Opin Biotechnol 2000;11:617–2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errara N, Carver-Moore K, Chen H, et al. Heterozygous embryonic lethality induced by targeted inactivation of the VEGF gene. Nature 1996;380:439–42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armeliet P, Ferreira V, Breier G, et al. Abnormal blood vessel development and lethality in embryos lacking a single VEGF allele. Nature 1996;380:435–9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oole AR. The growth plate: cellular physiology, cartilage assembly and mineralization. In: Hall BK, Newman SA, editors. Cartilage: molecular aspects. Boca Raton: CRC Press; 1991. p. 179–21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erber H-P, Ferrara N. Angiogenesis and bone growth. Trends Cardiovasc Med 2000;10:223–8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i J, Zhang Y-P, Kirsner R. Angiogenesis in wound repair: angiogenic growth factors and the extracellular matrix. Microsc Res Tech 2003;60:107–1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oede V, Schmidt T, Kimmina S, Kozian D, Augustin H. Analysis of blood vessel maturation processes during cyclic ovarian angiogenesis. Lab Invest 1998;78:1835–94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EFFD-2AFA-40E1-8B29-4C716A87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63C3-0D6C-4D5A-AD1F-BC7B2CB4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on RT-P, Fan S-T, Wong J. Clinical implications of circulating angiogenic factors in cancer patients. J Clin Oncol 2001;19:1207–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F13-E8B3-4D89-8EC1-6D575A66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5C02-9AB4-4F09-8D6C-708419FA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726-4C87-43E1-9148-68F16CB4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8B3-7233-485C-8C00-83494D8E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957A-CC7D-4B7C-9D54-1271F5B8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BB6-6D03-49CC-B196-AEB5B634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602-9272-4F1C-A783-F2C1F6A2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B36C-057F-434C-A30F-B00989DF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8BC3-82BF-4AF2-96B7-F9098794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734A-8661-4F26-97F3-9A744F98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269A-C94A-418B-A3DB-34C2AEEE9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BCE-8CCF-4ADE-916E-82D0BE23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12A-0E82-4666-B2A9-58436133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9BB-8C25-4D2A-9614-2CA277BB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0C9-6A1D-4E8F-82CF-C0C166FC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2F2-4E69-4065-B119-D763678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B4A-F134-429E-83B4-E4919B41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77D-091B-4BFF-ABB8-7EF0B6D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BCB-B25E-4194-BC95-13ACCE98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59D-0E38-4C66-80B8-A4D1AF02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94C-135B-4381-AB46-3BA6B90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E70-6F55-4DC5-BEB8-91381FB9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619-4148-4865-B474-3905EF4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9E6-FA77-4135-9D82-2C83DD5C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5C8-2214-412B-828F-B44B14D9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CCE4-5998-459A-A1EE-A74D14C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6F26-CB49-4665-AA2B-59899C99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B33-36EF-412B-AED7-601689E5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B3B2-821A-4CBA-BA55-CC22BFA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1247-533C-42AD-B5FC-2E3D6A6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98A3-767B-4202-86E0-0C03D11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3449-08F2-43DC-96E7-B693F1C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3DB4-D720-47BF-8EF6-ED77FAAF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C4C0-3C93-4D05-8C6C-593D7B0D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3BA-AA84-49E5-B27E-263E947E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7215-DEDE-45A4-AF7D-E2C39B3C9750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5D26-95F4-416D-BDBA-5D989448A8EA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LVER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735440" y="530064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 .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97964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АЦЕУТСКА ТЕХНОЛОГИЈ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-17640" y="14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СТЕПЕН УСИТЊЕНОСТИ ПОСТИЖ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ЕЈАВАЊ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З ОДРЕЂЕНА С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сита означава дужину отвора сита изражену 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8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200, 8000, 5600, 4000, 2800, 2000, 1580, 1400, 1000, 710, 500, 355, 250, 125, 90, 63, 45, 38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сита означава дужину отвора сита изражену у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3480" y="67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52240" y="1557360"/>
            <a:ext cx="821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финоће прашка може се одредити методом сејања при чему се корис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 си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 Jug. V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),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пен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итњености се исказује пре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ева си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се корис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ко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е наведених терм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  ПРАША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број 35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 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5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е пролази кроз сито 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сито б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80,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25,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број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ристи само ЈЕДНА бројна ознака за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97%  прашка мора 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и кроз сито истог бро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ако није другачије прописа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80" y="17002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КАО ОБЛИК ДОЗИРАЊА Л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26920" y="3414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а дисперзија једне или више лековитих супстанци одговарајућег степена уситње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дозирани облик лековите 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формулацију у којој је лековита супстан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а или 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шана са ексципијенсом да би се добио финални лековити обл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eњен за унутрашњу или спољашњу употреб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као лековит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ПР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одни за индивидуалну терап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терапијски ефекат у односу на друге чврсте облике (таблете или капсул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рална примена таблета или капс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ањ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. супстанц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 у гастроинтестиналним течностим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 су од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антибиотских си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инје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узима са мало воде, млека или сока и погодни су за децу или старије особе које имају проблем са гутањем таблета или капс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ПРАШ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узд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код примене неподељених пр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дани за примен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а јаког деловања у малим доза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дозирања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годни за примену лекова који 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актив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желу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о маскирањ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ијат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а или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ремена потребног за њихову припрему учинила је да се замењују таблетама и капсул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у Ph.Jug.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mix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standard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stabil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ipulv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ељени прашкови за оралну употре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pergen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ашкови за посип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нуле за оралну употре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turat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ашкови или масти – смеша лек. супстанце најчешће јаког деловања и средства за допуњавањ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360" y="1267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ПРАШКОВА 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 -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ој фармакопеј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85840" y="214308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ЛН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ULVERES PERORALIA Ph.Jug. 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lveres perorales Ph.Eur. 6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UL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GRANU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ПРИМЕНУ НА КОЖ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ULVERES DERMICUM, Pulveres ad usum dermicum Ph.Eur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ОРАЛНИХ РАСТВОРА И СУСПЕНЗИЈА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QUIDA PEROR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 -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УШИ 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РЕКТАЛНЕ РАСТВОРЕ И СУСПЕНЗИЈЕ 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КАПИ И ЛОСИОНА ЗА ОЧИ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TALMICA, Ph.Eur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Jug V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ОРАЛНУ УПОТРЕБУ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PERORALIA</a:t>
            </a:r>
            <a:br>
              <a:rPr sz="1800"/>
            </a:b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Eur. V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: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, ORAL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peroral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4000" y="1773360"/>
            <a:ext cx="8569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и који се саст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чврст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реситих и сувих честиц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ог степена уситње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др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ну или више лековитих супстанц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ли без помоћних матер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мириса и укус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рађују се ка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н о д о з н и  препарати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ковани у  папир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 кесице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ш е до з н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парати (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ом кашичицом или малом посуд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њуј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 најчешће тако што се размуте у води или некој другој течности или се прогутају директно са вод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и прашков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h.Eur. VI/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 или вишедозни прашкови који садрж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ел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бонат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карбонат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употребе с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арају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пергуј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од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се развија угљен-диоксид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46600" y="5805360"/>
            <a:ext cx="86698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истрибуцији МОРА да се обезбед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кробиолошка чистоћа препарата</a:t>
            </a:r>
            <a:r>
              <a:rPr b="1" lang="sr-Latn-CS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АШКОВА ЗА ОРАЛНУ УПОТР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0920" y="1916280"/>
            <a:ext cx="8713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итује се методом сејања или неко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погодном методом (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12)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садржаја лек.супстанце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прашкова 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ем лек. супстанц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2 mg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зи или ак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чини мање од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 (морају да одговарају захтевима теста Б за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 у једнодозним препаратим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ређује се појединачно садржај у 10 доза и просечан садржај активне супстанц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Б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арат задовољава захтеве испитивања ако све дозе имају лековиту супстанцу у опсегу 75% – 125% од просечног садржаја и највише једну дозу са мање од 85 или више од 115% од просечног садржа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ип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код којих ј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а или више 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сперзна фа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љ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ш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другој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о сред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арирање) ма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х паковања прашкова – израчунава се просечна маса 20 појединачних доза. Дозвољени проценат одступања зависи од просечне масе. Са повећањем масе опада проценат одступ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појединачне масе смеју одступати више од дозвољеног, а ниједна више од двоструке вредности дозвољеног процента одступ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води се ако се изводи испитивање на уједначеност 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масе подељених доза из вишедозних контејнер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h.Eur. VI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просечна маса 20 појединачних доза. Највише две масе смеју одступати од просечне за више од 10%, а ниједна више од 20%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68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97000" y="1700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х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х агрегата честиц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х за </a:t>
            </a:r>
            <a:r>
              <a:rPr b="1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лну употреб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дну или виш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 супстанц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ли без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ћних материја, боја или коригенс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као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одозн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е капсул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 или бочиц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шедозн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са приложеном кашичицом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м  посудом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обезбеди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у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ћу препа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садржи испарљиве компоненте или супстанце које треба заштитити – чување у добро затвореним контејнерим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ају се директно, или се жваћ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астварају или диспергују у води или некој другој течности пре примен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гранула по захтевима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0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дозних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гран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једначеност садржаја лековите супстанц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гранула са садржајем лек.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2 m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ако она чини мањ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има више од једне лек. 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е односи на ону која испуњава наведене усло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аченост мас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препарата гран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в облож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изводи се ако се изводи испитивање на уједначеност 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масе подељених доза из вишедозних контејне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800" y="2492280"/>
            <a:ext cx="841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ГРА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РВЕСЦЕНТН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ЕЋ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ГРАН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 СА МОДИФИКОВАНИМ ОСЛОБАЂАЊЕМ ЛЕК:СУПСТАН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3080" y="2565360"/>
            <a:ext cx="8730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Е (шумеће) 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ложене грану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е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у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или соли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з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ао калијум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лц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хидрогенкрбо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употреб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вара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пергу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звија угљ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ФЕРВЕСЦЕНТНИХ (ШУМЕЋИХ) ГРА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а доза ефервесцентних гранула пренесе се у тиквицу која садрж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 m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е воде загрејане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º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стварања мехурића је доказ да су се грануле раствориле или диспергова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е понавља на још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јединачних 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вим испитивањима грануле треба да се распадну 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3"/>
          <p:cNvSpPr/>
          <p:nvPr/>
        </p:nvSpPr>
        <p:spPr>
          <a:xfrm>
            <a:off x="2273400" y="1125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84360" y="227664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ГРАН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вишедозни препарати превучени – обложени са једним или више слојева смеше помоћних ма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облагање се наносе на грануле у виду раствора или суспензија, уз истовремено сушење, при чему растварач испар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или суспензија за облагање садржи полимер у одговарајућем растварачу, пластификаторе и бо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ОБЛОЖЕНИХ ГРАНУ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 из гран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 се прати ослобађање/количина растворене активне супстанце у познатој запремини течног медијума у одређеним временским интервалима. Растворена количина лековите супстанце се изражава као проценат од декларисаног садржа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2341080" y="1062000"/>
            <a:ext cx="43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66760" y="200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4360" y="227664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превлачењем гранула ацидорезистентном превлако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солвентним филм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е облоге – кополимери метакрилне киселине и естри фтал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 СА МОДИФИКОВАНИМ ОСЛОБАЂАЊЕМ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или необложене грануле добијене коришћењем специјалних помоћних материја и/или посебним технолошким поступцима, тако да се модифик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а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а фаза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z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о средство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 фазе могу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41656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6934320" y="1143000"/>
            <a:ext cx="2209680" cy="190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575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543800" y="1523880"/>
            <a:ext cx="30492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36784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8153280" y="1523880"/>
            <a:ext cx="30492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86456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7956720" y="1989000"/>
            <a:ext cx="45720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35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7543800" y="2209680"/>
            <a:ext cx="30492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 flipV="1">
            <a:off x="5796000" y="1628640"/>
            <a:ext cx="18288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6084720" y="1699920"/>
            <a:ext cx="223236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6300720" y="2204640"/>
            <a:ext cx="2016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 flipV="1">
            <a:off x="5940360" y="2421000"/>
            <a:ext cx="18003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5796000" y="2960280"/>
            <a:ext cx="165564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А СА МОДИФИКОВАНИМ ОСЛОБАЂАЊЕМ ЛЕКОВИТЕ СУПСТАНЦ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3068280"/>
            <a:ext cx="806436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ослобађања лековите супстанц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ран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е су дате у монографиј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оралну употребу и Гран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ћне 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бољшање дисперговања или растварања и спречавање очвршћавања талог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се на једнодозне обл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бро затвореним посуд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мора бити навед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итуис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или суспен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чувања и рок трајања реконституиса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3960" y="105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Jug. V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AD USUM DERMICUM</a:t>
            </a:r>
            <a:br>
              <a:rPr sz="1800"/>
            </a:b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Eur. 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 FOR CUTANEOUS APPLICATION- Pulveres ad usum dermic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чврстих, растреситих, сувих честица, различитог степена уситње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имати грудви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, са или без помоћних 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намењени за употребу на веће отворене ране или озлеђену кожу морају бити СТЕРИ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ка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 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 н о д о з н 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и ш е д о з н 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ују се у посуде са перфорираним улошком или са механичким средством за распршивање или под притис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гнир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у за спољашњу употребу и да 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е то захт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мора да се обезбеди микробиолошка чистоћа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АШКОВА ЗА СПОЉАШЊУ УПОТР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сеј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дозних 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прашк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h.Eur. 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рашкова са садржајем лек. супстанц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2 m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зи или мање 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ма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а паковања прашк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када јe декларис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а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израде, паковања, чувања и дистрибуције фармацеутских препарата треба предузети одговарајуће мере да би се осигурао њихов микробиолошки квал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реба да су у складу с критеријумима који су навед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МОРАЈУ да буду стерилни према релевантној монографији лековитог препарата и други препарати који су означени као стери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на стерилнос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/2.6.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81080" y="23270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ЉАШ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 као и препарати за примену дуж респираторног тракта, сем оних за које се захтева да буду стери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број аеробних живих микроорганиза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 укупн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 гљивиц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бактерија и неких других Гра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9680" y="232704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и РЕКТАЛНУ приме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више од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А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91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компоненте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степен уситњен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њ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мерења и преношења у тарионик од суспстанце заступљене у најмањој количини – ка већој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ак су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е, обојене и супстанце јаког дејств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но са десна на лево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ц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турирани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шков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турациј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м јако или врло јако делујуће супстанце са индиферентном супстанцом, најчешће лакотозом у конц.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:10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:100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хомогене смеше са истим садржајем лековите супстанце у сваком делу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216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или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укапавање, распршивање, удувавање у ушни канал или за испирање уши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уш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спреј препарат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уши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уш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, супозитор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T (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з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 за спољашњу или вагиналну 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ипа диспер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да одговарају захтевима датим у монографиј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ују се у одговарајућу амбалажу са аплика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и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примену у носне шупљине, у циљу постизања локалног или системског 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течни спреј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за но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су за ушмркавање у носне шупљине помоћу одговарајућег аплик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 захтевима датим у монографиј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је таква да се оне локализују у носној шупљини, што се проверава одговарајућим методама за одређивање величине честиц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 препара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примењују путем инјекције, инфузије или имплантацијом у људско или животињско т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арентералних препар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енске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и за инјекције и ив.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инј. и ив.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 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е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илне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коване у одговарајућу амбалаж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еш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одређеном запремин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писаног стерилног вехикулума / растварач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формирају бистр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актично без честица или хомоген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тварања или суспендовања одговарају захтевима за инјекције или ив. инфузије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.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или чврсти препарати у облику паре, аеросола или прашкова, намењени за примену у доњем делу респираторног тракта са циљем постизања локалног или системског 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инхал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инха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распрш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улиз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 у инхалаторима под притиском, са доз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 су као прашкови за једнократну примену, прашкови за вишекратну примену или прашкови који се добијају из компактних чврстих об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путем инхал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7210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ослобођене д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динамичко одређивање ситних 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слобођених доза по вишедозном контејн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за ректалну апликацију са циљем да се постигне системско или локално деловање или у дијагностичке сврх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ректалних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п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тамп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конзистенц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, гел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ВРСТИ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к као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ју се или суспендују у води непосредно пре аплик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помоћне материје које олакшавају  растварање или дисперговање или спречавају слепљивање честица у суспенз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 за израду ових раствора или суспензија морају да се распадну у води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нача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мора да стој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и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 чувања и рок у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итуиса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282680" y="12556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ulve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196380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епен уситњености супстанце: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вим појмом се  подразумева  уситњеност 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тепена праш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лик дозирања лека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и препа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вр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е диспер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 или више 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епарата 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е израђују са или без додатка помоћних материја).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дозирања за разне намене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стерно или интерн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 као међупроизвод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производњ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г другог коначног 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 супозито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1"/>
          <p:cNvSpPr/>
          <p:nvPr/>
        </p:nvSpPr>
        <p:spPr>
          <a:xfrm>
            <a:off x="179280" y="1230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степена уситњености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224000" y="1962000"/>
            <a:ext cx="28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02360" y="2125800"/>
            <a:ext cx="331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 места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580000" y="3890880"/>
            <a:ext cx="255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ција пре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851280" y="558972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а лек. 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246320" y="4762440"/>
            <a:ext cx="18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апијска ефикасност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55640" y="3251160"/>
            <a:ext cx="18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олошка расположивост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2120" y="100476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степена уситњености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471600" y="1773360"/>
            <a:ext cx="8143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 супстанце (величина честиц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е 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зину ослобађања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арања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овите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анц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се повећава укупна слободна површина честица лековите супстанце која је у контакту са раствараче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течности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ње брзине растварања</a:t>
            </a:r>
            <a:r>
              <a:rPr b="0" i="1" lang="sr-Latn-C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орпцију лек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је фактор који ограничава апсорп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24000" y="105264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садржаја лековите супстанц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се повећава број честица прашка по јединици масе фармацеутског облика, што повећава тачност дози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бедност примене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а величина честица код парентералн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итација места примен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а величина честица код офталмолошк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нос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утиче на физичку стабилност грубих дисперзија (суспензија). Честице мање величине се спорије таложе и постиже се боља хомоген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1:44Z</dcterms:modified>
  <cp:revision>1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9d258917-277f-42cd-a3cd-14c4e9ee58bc_ActionId">
    <vt:lpwstr>023c06de-155e-4993-a619-d0c39c952c2c</vt:lpwstr>
  </property>
  <property fmtid="{D5CDD505-2E9C-101B-9397-08002B2CF9AE}" pid="4" name="MSIP_Label_9d258917-277f-42cd-a3cd-14c4e9ee58bc_ContentBits">
    <vt:lpwstr>0</vt:lpwstr>
  </property>
  <property fmtid="{D5CDD505-2E9C-101B-9397-08002B2CF9AE}" pid="5" name="MSIP_Label_9d258917-277f-42cd-a3cd-14c4e9ee58bc_Enabled">
    <vt:lpwstr>true</vt:lpwstr>
  </property>
  <property fmtid="{D5CDD505-2E9C-101B-9397-08002B2CF9AE}" pid="6" name="MSIP_Label_9d258917-277f-42cd-a3cd-14c4e9ee58bc_Method">
    <vt:lpwstr>Standard</vt:lpwstr>
  </property>
  <property fmtid="{D5CDD505-2E9C-101B-9397-08002B2CF9AE}" pid="7" name="MSIP_Label_9d258917-277f-42cd-a3cd-14c4e9ee58bc_Name">
    <vt:lpwstr>restricted</vt:lpwstr>
  </property>
  <property fmtid="{D5CDD505-2E9C-101B-9397-08002B2CF9AE}" pid="8" name="MSIP_Label_9d258917-277f-42cd-a3cd-14c4e9ee58bc_SetDate">
    <vt:lpwstr>2022-09-17T17:20:33Z</vt:lpwstr>
  </property>
  <property fmtid="{D5CDD505-2E9C-101B-9397-08002B2CF9AE}" pid="9" name="MSIP_Label_9d258917-277f-42cd-a3cd-14c4e9ee58bc_SiteId">
    <vt:lpwstr>38ae3bcd-9579-4fd4-adda-b42e1495d55a</vt:lpwstr>
  </property>
</Properties>
</file>